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B625-3D49-456F-AEFE-AD44B86D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7797-9640-4E00-95BC-DABE03CE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E640-5143-4E15-BB4A-20A02FF1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A86D-9ECA-4AC7-9961-8C2C7F72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5BCC-CAC0-40B9-BBC9-E90CFD8F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2EE6-D1CC-49CD-873E-8A3E2552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8528-9612-4BE9-A3B6-A7F22EE4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92E5-9AD9-470F-A76B-154B813A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B193-1B30-4800-9C22-28BB258E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D346-134B-4FFE-A31C-18ED6E5B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313-C3F0-4682-8825-5DF42725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6556-0E47-4D30-808F-D074735E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8596-1FA5-4687-B705-2C28C797B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6.6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atter Plots and Equations of 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6765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 Writing the Equation of a Trend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4320" cy="2496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3429000" cy="1036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410080" y="1752480"/>
            <a:ext cx="2579760" cy="2819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28600" y="3657600"/>
            <a:ext cx="5029200" cy="338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52280" y="5686560"/>
            <a:ext cx="548640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4320" cy="5427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56386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21:35:13Z</dcterms:created>
  <dc:creator>Susannah Graham</dc:creator>
  <dc:description/>
  <dc:language>en-US</dc:language>
  <cp:lastModifiedBy>Susannah Graham</cp:lastModifiedBy>
  <dcterms:modified xsi:type="dcterms:W3CDTF">2009-08-04T21:17:37Z</dcterms:modified>
  <cp:revision>1</cp:revision>
  <dc:subject/>
  <dc:title>Lesson 6.6 Scatter Plots and Equations of Lines</dc:title>
</cp:coreProperties>
</file>